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8CEE3-0B07-4C28-884A-7279AAB38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51F9E-5814-4D3A-9E96-0980991B5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1DAE9-B94D-4243-9AB2-DDFCCEA98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0ED8D-0E6B-444B-AF6B-7EE15FFF8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02C859-A12A-40A0-AB82-FC3F50C6B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F81E4-F400-4204-A048-D22F94876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BAB2E-F77D-46D0-A87B-8B9000B76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907C5-2562-4A52-8915-37A7C2C7A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55BE9-4009-4A17-BF0C-06CA93085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1F8C8-8DA7-4688-9766-3134AAB61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D8E01-CE02-4FCD-AA6F-459563117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E5A6A-50E2-4D1E-B8FD-D4A15FE55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0CA65-9F7F-4298-BB2F-6ACE673C6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C990C-68FF-49B0-B875-5580E54BB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715BA-E176-4F06-9B5C-01DFD64D6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398A3-A8B3-43A5-89BF-B89D0C1B0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914326-72A6-4945-A012-F33E9391D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19E28-45E5-4D73-9DFB-415B012E2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05E7D-3909-4CDD-8ACB-227D514EC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0AABA-CC24-4331-A2FE-B55550510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D005C-D683-45EA-A124-39F425523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87798-BB16-49E7-A8AA-23B285F0B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1133-325C-4755-AF34-53F32C7D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D77C-BF34-433F-A0B9-BE0201216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050F-C4AA-43F8-B0F3-8A4F6B138DA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0D1E-896B-469B-860B-B92E1F4824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SIMFONIA</a:t>
            </a:r>
            <a:r>
              <a:rPr b="1" lang="en-US" sz="1800" spc="-1" strike="noStrike">
                <a:solidFill>
                  <a:srgbClr val="ccecff"/>
                </a:solidFill>
                <a:latin typeface="Arial"/>
              </a:rPr>
              <a:t> </a:t>
            </a:r>
            <a:endParaRPr b="0" lang="en-US" sz="1800" spc="-1" strike="noStrike">
              <a:solidFill>
                <a:srgbClr val="ccecff"/>
              </a:solidFill>
              <a:latin typeface="Arial"/>
            </a:endParaRPr>
          </a:p>
        </p:txBody>
      </p:sp>
      <p:sp>
        <p:nvSpPr>
          <p:cNvPr id="211"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Arial"/>
            </a:endParaRPr>
          </a:p>
        </p:txBody>
      </p:sp>
      <p:sp>
        <p:nvSpPr>
          <p:cNvPr id="212"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0"/>
                                        </p:tgtEl>
                                        <p:attrNameLst>
                                          <p:attrName>style.visibility</p:attrName>
                                        </p:attrNameLst>
                                      </p:cBhvr>
                                      <p:to>
                                        <p:strVal val="visible"/>
                                      </p:to>
                                    </p:set>
                                    <p:animEffect filter="dissolve" transition="in">
                                      <p:cBhvr additive="repl">
                                        <p:cTn id="7" dur="5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Arial"/>
            </a:endParaRPr>
          </a:p>
        </p:txBody>
      </p:sp>
      <p:sp>
        <p:nvSpPr>
          <p:cNvPr id="21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215" name="Picture 10" descr=""/>
          <p:cNvPicPr/>
          <p:nvPr/>
        </p:nvPicPr>
        <p:blipFill>
          <a:blip r:embed="rId1">
            <a:grayscl/>
          </a:blip>
          <a:stretch/>
        </p:blipFill>
        <p:spPr>
          <a:xfrm>
            <a:off x="5214960" y="928800"/>
            <a:ext cx="1440000" cy="1439640"/>
          </a:xfrm>
          <a:prstGeom prst="rect">
            <a:avLst/>
          </a:prstGeom>
          <a:ln w="9360">
            <a:solidFill>
              <a:srgbClr val="969696"/>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Arial"/>
            </a:endParaRPr>
          </a:p>
          <a:p>
            <a:pPr marL="609480" indent="-609480" algn="just">
              <a:lnSpc>
                <a:spcPct val="100000"/>
              </a:lnSpc>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Arial"/>
            </a:endParaRPr>
          </a:p>
          <a:p>
            <a:pPr lvl="1" marL="990720" indent="-533520" algn="just">
              <a:lnSpc>
                <a:spcPct val="100000"/>
              </a:lnSpc>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Arial"/>
            </a:endParaRPr>
          </a:p>
        </p:txBody>
      </p:sp>
      <p:sp>
        <p:nvSpPr>
          <p:cNvPr id="217"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4a3</cp:lastModifiedBy>
  <dcterms:modified xsi:type="dcterms:W3CDTF">2012-06-09T23:23:01Z</dcterms:modified>
  <cp:revision>47</cp:revision>
  <dc:subject/>
  <dc:title>SALARIUL</dc:title>
</cp:coreProperties>
</file>